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BBAD-1F84-4370-B5DA-ED1ED2D7E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AA17-7A58-4E5E-AD5F-037B040C1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44560" y="7034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DA5A-2070-4ACF-B948-649BB5D39C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25F-DBF3-4A24-8522-B274F77D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280-4041-4BF2-8C57-A0392609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DD0-CFCE-4167-9222-7C229726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1C4-28D7-4F42-A67A-B56B02ED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5CE-0B9D-4FD1-BD89-92ADD2DC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B30-08A3-4B88-A00C-76F1918A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209-F9AA-4904-B632-48162621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6C5-E6C4-42DD-9756-9FECA61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28240"/>
            <a:ext cx="9515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E19-DF89-48B3-B104-152E57D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A45-0029-4A9B-B2EC-37D79F7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294-9B41-4C2B-B354-AA664FE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D38-0940-4284-9D46-49A54E3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5E7-563C-449E-B829-81C6FA526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 rot="5400000">
            <a:off x="1709640" y="-1719360"/>
            <a:ext cx="6850080" cy="10304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76360" y="722160"/>
            <a:ext cx="92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Neuroenergetics: Modeling brain cell metabolic phen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7720" y="2639880"/>
            <a:ext cx="10069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Solving biological problems that require Math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Project superv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Luc Pelle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Aitana Morton de Lachap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448000" y="63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25480" y="762120"/>
            <a:ext cx="8674200" cy="59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Astrocyte_2"/>
          <p:cNvPicPr/>
          <p:nvPr/>
        </p:nvPicPr>
        <p:blipFill>
          <a:blip r:embed="rId1"/>
          <a:srcRect l="1401" t="3146" r="1563" b="1351"/>
          <a:stretch/>
        </p:blipFill>
        <p:spPr>
          <a:xfrm>
            <a:off x="852480" y="771480"/>
            <a:ext cx="8618400" cy="5892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007640" y="1941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NEU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139000" y="19414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ASTR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181720" y="194004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CAPIL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893000" y="394164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481720" y="34513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762080" y="374184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726440" y="41371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71600" y="9525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269440" y="137016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284560" y="17762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302920" y="212868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449440" y="30160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153520" y="335448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176920" y="37260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162520" y="520524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4681800" y="2800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4550760" y="309096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4504680" y="347040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753080" y="5237280"/>
            <a:ext cx="1663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1    in capill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nd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3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4696560" y="5946840"/>
            <a:ext cx="205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onocarboxyl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1   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2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6513120" y="5224320"/>
            <a:ext cx="304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 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N-1   System N transport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AT    Sodium-dependent aminoacid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556320" y="5972040"/>
            <a:ext cx="253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EAAT  (excitatory aminoacid trasporter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5891400" y="31305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2535120" y="210960"/>
            <a:ext cx="53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Astrocyte-Neuron Lactat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8"/>
          <p:cNvSpPr/>
          <p:nvPr/>
        </p:nvSpPr>
        <p:spPr>
          <a:xfrm>
            <a:off x="2500200" y="203040"/>
            <a:ext cx="5391360" cy="47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448000" y="63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359000" y="698400"/>
            <a:ext cx="7315200" cy="57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743120" y="977760"/>
            <a:ext cx="6680160" cy="5335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835160" y="639756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Barros et al. (2005) TINS 28:117-11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74800" y="162000"/>
            <a:ext cx="83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R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  <a:ea typeface="ＭＳ Ｐゴシック"/>
              </a:rPr>
              <a:t>ô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le du transport du glucose pour son utilisation par les cell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946080" y="152280"/>
            <a:ext cx="818208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359000" y="1697040"/>
            <a:ext cx="7315200" cy="47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8480" y="393840"/>
            <a:ext cx="957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Rounded MT Bold"/>
              </a:rPr>
              <a:t>Modélisation de phénotypes métaboliqu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Rounded MT Bold"/>
              </a:rPr>
              <a:t>Neurone vs Astr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72960" y="415800"/>
            <a:ext cx="9350640" cy="884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2448000" y="2014560"/>
            <a:ext cx="5052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48000" y="63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08000"/>
            <a:ext cx="9518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2280" y="1328760"/>
            <a:ext cx="9256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Une équation différentielle est une relation entre une ou plusieurs fonctions inconnues et leurs dériv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Les équations différentielles sont utilisées pour construire des modèles mathématiques de phénomènes physiques ou biologiques par 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MATLAB est à la fois un langage de programmation et un environnement de développement utilisé pour le calcul numér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876400" y="2268360"/>
            <a:ext cx="4980240" cy="9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09:53:26Z</dcterms:created>
  <dc:creator>P.J. Magistretti</dc:creator>
  <dc:description/>
  <dc:language>en-US</dc:language>
  <cp:lastModifiedBy>Aitana Morton de Lachapelle</cp:lastModifiedBy>
  <dcterms:modified xsi:type="dcterms:W3CDTF">2011-02-24T14:10:27Z</dcterms:modified>
  <cp:revision>122</cp:revision>
  <dc:subject/>
  <dc:title>Aucun titre de diapositive</dc:title>
</cp:coreProperties>
</file>